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CC2-4A0C-4420-A376-C39249A2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CD1-4859-4013-9C1A-63381BBD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C45-786B-48BD-B9F8-CBE8434F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237-B71D-4BE4-AD98-FE56E095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4C30-ECA4-4388-AF0E-BA11D683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A5A7-64DC-4F0D-A7A5-8B92B5A9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E9B4-65D2-4B15-AEFB-7D8F7A08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5280-B02C-452B-9233-79D6A009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BA2-72A6-4250-BE50-6EFB7008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317F-C632-4839-BD29-4106AF1E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838F-73B0-4F1A-8E1E-BBFD473D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1EE-D5FA-4065-875E-732292F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CAD1-B033-4781-B84A-3406360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B574-1227-412E-876A-C7BAF33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8CB7-E078-43AF-9156-F0FE145D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E494-7639-40AD-8348-2DC31251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6F17-3DFC-4B5A-92C8-50F87562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E15-F93D-4EDB-AAD6-3A97B586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3FF-A93C-48D5-A37B-9F00B9AF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40D-F1BE-4112-8B21-70A51FE1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3CA-583C-418B-BEA9-F88EC937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EE6-197B-46AD-96DF-2A633686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497-86AA-4012-99A5-B882469F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A42-615E-474C-844A-355C5A54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9640"/>
                <a:ext cx="1832760" cy="1670400"/>
                <a:chOff x="853560" y="4049640"/>
                <a:chExt cx="1832760" cy="16704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9080" y="3931200"/>
                  <a:ext cx="477360" cy="1252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4200" y="4978800"/>
                  <a:ext cx="110520" cy="513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D09E-8304-41B3-A337-1DBAEE8F6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5600" y="61920"/>
              <a:ext cx="3644280" cy="6145920"/>
              <a:chOff x="5385600" y="61920"/>
              <a:chExt cx="3644280" cy="614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6840" y="347760"/>
                <a:ext cx="2120040" cy="2358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0960" y="1970640"/>
                <a:ext cx="9079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400" y="2589840"/>
                <a:ext cx="44028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800" y="67680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3400" y="265500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040" y="124272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5880" y="2945160"/>
                <a:ext cx="52452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26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04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304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08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2880" y="5195880"/>
              <a:ext cx="17622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8720" y="1032840"/>
              <a:ext cx="1017000" cy="1263240"/>
              <a:chOff x="4158720" y="103284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4520" y="1070640"/>
                <a:ext cx="285840" cy="379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9120" y="1603800"/>
                <a:ext cx="488880" cy="31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9120" y="196236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7760"/>
              <a:ext cx="894600" cy="825480"/>
              <a:chOff x="5645520" y="257760"/>
              <a:chExt cx="8946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516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720" y="432000"/>
                <a:ext cx="306360" cy="30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7120"/>
                <a:ext cx="31824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920" y="5242320"/>
              <a:ext cx="1060200" cy="830520"/>
              <a:chOff x="970920" y="5242320"/>
              <a:chExt cx="106020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3960" y="550692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840" y="5717880"/>
                <a:ext cx="43056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67240"/>
                <a:ext cx="4500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8960"/>
              <a:ext cx="1693080" cy="1146960"/>
              <a:chOff x="376920" y="408960"/>
              <a:chExt cx="169308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960" y="1027080"/>
                <a:ext cx="35568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640" y="552240"/>
                <a:ext cx="608760" cy="44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6668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35080" y="3711960"/>
              <a:ext cx="1158120" cy="1608480"/>
              <a:chOff x="7435080" y="3711960"/>
              <a:chExt cx="115812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89800" y="4756680"/>
                <a:ext cx="35604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1600" y="4455720"/>
                <a:ext cx="60948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33800" y="3781080"/>
                <a:ext cx="63720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5720" y="3240"/>
              <a:ext cx="13708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2240" y="160920"/>
              <a:ext cx="1083240" cy="94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5560" y="1361160"/>
              <a:ext cx="524520" cy="440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736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98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360" y="1964880"/>
              <a:ext cx="62496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F193-2A9D-4C66-AD6A-16B97FA54B8E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743200"/>
            <a:ext cx="7734240" cy="130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DAPTIVE RELIABLE MULTIPATH PROVISIONING IN SURVIVABLE WDM MESH NETWORK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PROPOSED WORK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A proposal to “adaptive reliable multipath provisioning in survivable WDM mesh networks”. Has to satisf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fficient utilization of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reduction in cos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Increases connection availability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erformance of network load vs. bandwidth blocking ratio will be verifi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OOL USED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t lab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REFERENC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Song and B. Mukherjee, “A comprehensive study on backup bandwidth reprovisioning after network-state updates in survivable telecom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,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ol. 16, no. 6, pp. 1366–1377, Dec. 2008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Song, J. Zhang, and B. Mukherjee, “Dynamic provisioning with availability guarantee for differentiated services in survivable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 J. Sel. Areas Common., vol. 25, </a:t>
            </a:r>
            <a:r>
              <a:rPr b="0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. 3, pp. 35–43, Apr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. Rai, O. Deshpande, C. Ou, C. Martel, and B. Mukherjee, “Reliable multipath provisioning for high-capacity backbone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 Netw., vol. 15, no. 4, pp.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03–812, Aug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228600" y="30492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Zhou, M. Held, and U. Sennhauser, “Connection availability analysis of shared backup path-protected mesh networks,” Light wave Technol., vol. 25, no. 5, pp. 1111–1119, May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.Zhang, K. Zhu, H. Zang, N. S. Matloff, and B. Mukherjee,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“Availability-aware provisioning strategies for differentiated protection services in wavelength-convertible WDM mesh networks,” </a:t>
            </a:r>
            <a:r>
              <a:rPr b="0" lang="nl-NL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 Netw., vol. 15, no. 5, pp. 1177–1190,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t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. Das, C. Martel, B. Mukherjee, and S. Rai, “A better approach to reliable multi-path provisioning,” in IEEE Global </a:t>
            </a:r>
            <a:r>
              <a:rPr b="0" lang="fr-F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élécommunications Conf., 200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GENDA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280" y="1219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terature surve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blem state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posed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ol us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793908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avelength division multiplex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ultiple optical carrier signals of unique wavelengths on a single fiber cabl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WD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igh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tremely low error rat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w signal attenu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ore secu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5181480" cy="419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451400" y="3321000"/>
                <a:ext cx="241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04920" y="3808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10181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10181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-3049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ypical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onnection request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requires two paramet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rotection from network failur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-Efficient utilization of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urvivabili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bility to remain alive or continue to exist the network</a:t>
            </a:r>
            <a:r>
              <a:rPr b="0" lang="en-US" sz="2400" spc="-1" strike="noStrike">
                <a:solidFill>
                  <a:srgbClr val="10181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248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3619440" cy="16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4038480" cy="1600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0" y="2438280"/>
            <a:ext cx="4343400" cy="3519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4267080" y="1676520"/>
            <a:ext cx="4876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rtual concatenation(VCAT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reaks the bandwidth into individual payload  at the source end and  concatenated at destination nod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nables  reliable multipath  techniqu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46960" indent="-246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nk Capacity Adjustment scheme (LCAS 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protocol for dynamic adding/removing of VCAT member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ides the capability of temporarily removing member links that  have experienced a failu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229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1066680"/>
            <a:ext cx="86868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LITERATURE SURVEY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3808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ynamic provision with availability guarantee  for differentiated services in mesh network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ackup reprovisioning to remedy the effect of multiple link failures in WDM mesh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urvivable virtual concatenation for data over SONET/SDH in optical transport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nection availability analysis of shared backup path-protected mesh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ptimal path selection for minimizing the differential delay in Ethernet-over-SON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PROBLEM FORMUL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o provide an efficient connection availability in multipath provisioning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8:52:07Z</dcterms:created>
  <dc:creator>Electronics Projects</dc:creator>
  <dc:description>Electronics Projects</dc:description>
  <dc:language>en-US</dc:language>
  <cp:lastModifiedBy>Brigade</cp:lastModifiedBy>
  <dcterms:modified xsi:type="dcterms:W3CDTF">2011-08-26T11:08:43Z</dcterms:modified>
  <cp:revision>0</cp:revision>
  <dc:subject>Electronics Projects</dc:subject>
  <dc:title>ECE IEEE Projects</dc:title>
</cp:coreProperties>
</file>